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43BD-E583-4D8D-84D5-4E2A8C82E4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32C0-4300-4564-AABA-96A053AD27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6D66-CA52-4F3F-9189-DC1B2B98BE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A159-1082-4B57-AB32-8CF604B7C0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8EA-3B54-4307-916E-E3B278C4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8FD5-C711-493D-ABD0-F03139C7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E42D-73E6-46BB-87FC-A7A6EAB6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584-2225-49CA-AD4B-B5A54B35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F191-92C6-479E-8D20-301BB1B6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0B4B-033D-437C-A227-D58BC36A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3C4D-10DC-47A0-89F5-FF02AB70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0B97-0A6B-40ED-91E6-FB559CBF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CB02-7D84-4E03-93BD-09AEA2AD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50E1-61FD-4862-A344-021ED329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D589-661C-4640-B52E-F968AEDA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E64-FD34-42D5-AB90-A4A23858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D610-4F29-4F93-B9FD-1C3C3027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DF6D-770F-430B-BA1B-41B889ED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1D67-9DC7-4445-B9D6-331BE380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D713-1815-4303-9244-A88E02BA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4A38-AB9C-430E-BBB6-5350E893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B38-2F35-4904-A7F8-7FB691A4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82C3-2A6C-4AE8-ADD9-4B7FA4C1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4BCD-6826-4C86-8B37-FB525628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3416-329B-48D5-9CCA-DE7A9FAD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4DAA-A08D-447E-AE94-F7784E43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48A-254B-4526-966F-947C5CFF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0B0-85AD-4CE7-946F-7C7D0E49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DCF4-F9E4-4C91-B90D-0765527B49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196A-BA77-4DBC-9E41-EA93523C2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1763640" y="399960"/>
            <a:ext cx="62643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авляющие отношения забирают огромное количество энергии. Напряженность и конфликты истощают силы, доброе отношение и предоставленная возможность быть собой воодушевляют и наполняют энерг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ьюзан Форв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1619280" y="1356120"/>
            <a:ext cx="7524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Не копай другому яму- сам в неё попад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Не плюй в колодец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 авось придется вод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напитьс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Как аукнется, так и откликн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Поделись улыбкою своей, и она еще не 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к тебе вернется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1188000" y="406080"/>
            <a:ext cx="65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Calibri"/>
              </a:rPr>
              <a:t>2 Этап </a:t>
            </a:r>
            <a:r>
              <a:rPr b="1" lang="ru-RU" sz="3200" spc="-1" strike="noStrike">
                <a:solidFill>
                  <a:srgbClr val="006600"/>
                </a:solidFill>
                <a:latin typeface="Calibri"/>
                <a:ea typeface="Calibri"/>
              </a:rPr>
              <a:t>–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Calibri"/>
              </a:rPr>
              <a:t>  </a:t>
            </a:r>
            <a:r>
              <a:rPr b="1" lang="ru-RU" sz="3200" spc="-1" strike="noStrike">
                <a:solidFill>
                  <a:srgbClr val="006600"/>
                </a:solidFill>
                <a:latin typeface="Calibri"/>
                <a:ea typeface="Calibri"/>
              </a:rPr>
              <a:t>«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Calibri"/>
              </a:rPr>
              <a:t>Вопросы от блондинок</a:t>
            </a:r>
            <a:r>
              <a:rPr b="1" lang="ru-RU" sz="3200" spc="-1" strike="noStrike">
                <a:solidFill>
                  <a:srgbClr val="006600"/>
                </a:solidFill>
                <a:latin typeface="Calibri"/>
                <a:ea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1397160"/>
          <a:ext cx="8569080" cy="4065480"/>
        </p:xfrm>
        <a:graphic>
          <a:graphicData uri="http://schemas.openxmlformats.org/drawingml/2006/table">
            <a:tbl>
              <a:tblPr/>
              <a:tblGrid>
                <a:gridCol w="1387440"/>
                <a:gridCol w="2039760"/>
                <a:gridCol w="1325520"/>
                <a:gridCol w="1295640"/>
                <a:gridCol w="252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е тело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- один из видов энер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ергия- способность совершать рабо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 Д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дная мушка Машка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омментарий учителя.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835280" y="260280"/>
            <a:ext cx="66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3 Этап «Наши руки не для скуки…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этап практическ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Загнутый угол 2"/>
          <p:cNvSpPr/>
          <p:nvPr/>
        </p:nvSpPr>
        <p:spPr>
          <a:xfrm>
            <a:off x="2843280" y="1413000"/>
            <a:ext cx="2881080" cy="1008000"/>
          </a:xfrm>
          <a:prstGeom prst="foldedCorner">
            <a:avLst>
              <a:gd name="adj" fmla="val 1666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нутый угол 3"/>
          <p:cNvSpPr/>
          <p:nvPr/>
        </p:nvSpPr>
        <p:spPr>
          <a:xfrm>
            <a:off x="2843280" y="2708280"/>
            <a:ext cx="2952720" cy="1008000"/>
          </a:xfrm>
          <a:prstGeom prst="foldedCorner">
            <a:avLst>
              <a:gd name="adj" fmla="val 1666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дсказк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нутый угол 4"/>
          <p:cNvSpPr/>
          <p:nvPr/>
        </p:nvSpPr>
        <p:spPr>
          <a:xfrm>
            <a:off x="3059280" y="3357720"/>
            <a:ext cx="2952720" cy="1008000"/>
          </a:xfrm>
          <a:prstGeom prst="foldedCorner">
            <a:avLst>
              <a:gd name="adj" fmla="val 1666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дсказк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нутый угол 5"/>
          <p:cNvSpPr/>
          <p:nvPr/>
        </p:nvSpPr>
        <p:spPr>
          <a:xfrm>
            <a:off x="3419640" y="4076640"/>
            <a:ext cx="2952720" cy="1008000"/>
          </a:xfrm>
          <a:prstGeom prst="foldedCorner">
            <a:avLst>
              <a:gd name="adj" fmla="val 1666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дсказка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нутый угол 6"/>
          <p:cNvSpPr/>
          <p:nvPr/>
        </p:nvSpPr>
        <p:spPr>
          <a:xfrm>
            <a:off x="3635280" y="4869000"/>
            <a:ext cx="2952720" cy="1008000"/>
          </a:xfrm>
          <a:prstGeom prst="foldedCorner">
            <a:avLst>
              <a:gd name="adj" fmla="val 1666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дсказка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Загнутый угол 7"/>
          <p:cNvSpPr/>
          <p:nvPr/>
        </p:nvSpPr>
        <p:spPr>
          <a:xfrm>
            <a:off x="3924360" y="5661000"/>
            <a:ext cx="2951280" cy="1008000"/>
          </a:xfrm>
          <a:prstGeom prst="foldedCorner">
            <a:avLst>
              <a:gd name="adj" fmla="val 1666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дсказка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C:\Users\Администратор\Desktop\урок\13.06NA-RABOT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>
            <a:alpha val="2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611280" y="333360"/>
            <a:ext cx="73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4 Этап «Задача чистого интеллекта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907920"/>
          <a:ext cx="8135640" cy="5761080"/>
        </p:xfrm>
        <a:graphic>
          <a:graphicData uri="http://schemas.openxmlformats.org/drawingml/2006/table">
            <a:tbl>
              <a:tblPr/>
              <a:tblGrid>
                <a:gridCol w="1627200"/>
                <a:gridCol w="1627200"/>
                <a:gridCol w="1626840"/>
                <a:gridCol w="1627200"/>
                <a:gridCol w="1627200"/>
              </a:tblGrid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0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усок массой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500 г соскальзывает по наклонной поверхности с высоты h = 0,8 м и, двигаясь по горизонтальной поверхности, сталкивается с неподвижным бруском массой m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300 г. Считая столкновение абсолютно неупругим, определите изменение кинетической энергии первого бруска в результате столкновения. Трением при движении пренебречь. Считать, что наклонная плоскость плавно переходит в горизонтальную. Ответ округлить до десяты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ета стартует с поверхности Земли и в течение 10 с движется с постоянным ускорением 5 м/с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Затем двигатели ракеты выключаются. Найдите максимальную высоту, на которую поднимется ракета над поверхностью Земл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брошенного мяча непосредственно перед ударом о стену была вдвое больше чем сразу после уда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е количество теплоты выделилось при ударе ,если перед ударом о стену кинетическая энергия мяча была 20 Дж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nastasiaScript"/>
              </a:rPr>
              <a:t>... </a:t>
            </a:r>
            <a:r>
              <a:rPr b="1" lang="ru-RU" sz="5400" spc="-1" strike="noStrike">
                <a:solidFill>
                  <a:srgbClr val="006600"/>
                </a:solidFill>
                <a:latin typeface="AnastasiaScript"/>
              </a:rPr>
              <a:t>в любой загадке таится энергия. </a:t>
            </a:r>
            <a:br>
              <a:rPr sz="5400"/>
            </a:br>
            <a:r>
              <a:rPr b="1" lang="ru-RU" sz="5400" spc="-1" strike="noStrike">
                <a:solidFill>
                  <a:srgbClr val="006600"/>
                </a:solidFill>
                <a:latin typeface="AnastasiaScript"/>
              </a:rPr>
              <a:t>И тот, кто ищет ответ, этой энергией питается.</a:t>
            </a:r>
            <a:br>
              <a:rPr sz="5400"/>
            </a:br>
            <a:r>
              <a:rPr b="1" lang="ru-RU" sz="4400" spc="-1" strike="noStrike">
                <a:solidFill>
                  <a:srgbClr val="006600"/>
                </a:solidFill>
                <a:latin typeface="AnastasiaScript"/>
              </a:rPr>
              <a:t>Джон Фаулз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162160" y="3429000"/>
            <a:ext cx="657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nastasiaScript"/>
              </a:rPr>
              <a:t>... в любой загадке таится____________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nastasiaScript"/>
              </a:rPr>
              <a:t>И тот, кто ищет ответ, этой _________питается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nastasiaScript"/>
              </a:rPr>
              <a:t>Джон Фаулз. Волхв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162160" y="3429000"/>
            <a:ext cx="657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QUIZ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(англ.) -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2"/>
          <p:cNvSpPr/>
          <p:nvPr/>
        </p:nvSpPr>
        <p:spPr>
          <a:xfrm>
            <a:off x="1763640" y="1484280"/>
            <a:ext cx="70106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соревнование , викто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763640" y="24188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 1  -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с картин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 2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о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лондино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 3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и руки не для ску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 4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чистого интеллек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4"/>
          <p:cNvSpPr/>
          <p:nvPr/>
        </p:nvSpPr>
        <p:spPr>
          <a:xfrm>
            <a:off x="1763640" y="5493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 1  -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с картинк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http://thebester.ru/uploads/images/00/60/57/2011/04/27/7ca2f92d6f.jpg"/>
          <p:cNvPicPr/>
          <p:nvPr/>
        </p:nvPicPr>
        <p:blipFill>
          <a:blip r:embed="rId1"/>
          <a:stretch/>
        </p:blipFill>
        <p:spPr>
          <a:xfrm>
            <a:off x="1476360" y="1268280"/>
            <a:ext cx="61912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allpoper.com/images/00/41/60/78/artwork-bullets_00416078.jpg"/>
          <p:cNvPicPr/>
          <p:nvPr/>
        </p:nvPicPr>
        <p:blipFill>
          <a:blip r:embed="rId1"/>
          <a:stretch/>
        </p:blipFill>
        <p:spPr>
          <a:xfrm>
            <a:off x="1042920" y="765000"/>
            <a:ext cx="79916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ludota.ru/wp-content/uploads/2014/01/Mark-Strenton-strelyaet-iz-longbow.jpg"/>
          <p:cNvPicPr/>
          <p:nvPr/>
        </p:nvPicPr>
        <p:blipFill>
          <a:blip r:embed="rId1"/>
          <a:stretch/>
        </p:blipFill>
        <p:spPr>
          <a:xfrm>
            <a:off x="1619280" y="981000"/>
            <a:ext cx="57150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Администратор\Desktop\урок\1011-990.jpg"/>
          <p:cNvPicPr/>
          <p:nvPr/>
        </p:nvPicPr>
        <p:blipFill>
          <a:blip r:embed="rId1"/>
          <a:stretch/>
        </p:blipFill>
        <p:spPr>
          <a:xfrm>
            <a:off x="1403280" y="692280"/>
            <a:ext cx="74152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835280" y="3333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ы на вопросы 1 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692280"/>
          <a:ext cx="4824360" cy="6130800"/>
        </p:xfrm>
        <a:graphic>
          <a:graphicData uri="http://schemas.openxmlformats.org/drawingml/2006/table">
            <a:tbl>
              <a:tblPr/>
              <a:tblGrid>
                <a:gridCol w="1419120"/>
                <a:gridCol w="3405240"/>
              </a:tblGrid>
              <a:tr h="48996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р вопроса по поряд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изкий 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p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в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p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в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p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в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яжелое тело и рез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p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в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нутренн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p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, если отсчет вести от уровня зем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 если -от сидения ст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-8 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-10 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3132000" y="274680"/>
            <a:ext cx="576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ш мир погружен в огромный океан энергии, мы летим в бесконечном пространстве с непостижимой скоростью. Всё вокруг вращается, движется — всё энергия. Перед нами грандиозная задача — найти способы добычи этой энергии. Тогда, извлекая её из этого неисчерпаемого источника, человечество будет продвигаться вперёд гигантскими шаг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ола Те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3564000" y="4084200"/>
            <a:ext cx="5111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сё по сути своей является энергией, и, размышляя, вы оперируете огромным объёмом этой энергии в быстрой, лёгкой и подвижной форме — в форме мы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жон Кех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http://asmo.ru/wp-content/uploads/2016/05/346a5d5d8c12630f978ffce7fe519e4c.jpg"/>
          <p:cNvPicPr/>
          <p:nvPr/>
        </p:nvPicPr>
        <p:blipFill>
          <a:blip r:embed="rId1"/>
          <a:stretch/>
        </p:blipFill>
        <p:spPr>
          <a:xfrm>
            <a:off x="0" y="0"/>
            <a:ext cx="3132000" cy="270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ttps://sxodim.com/uploads/almaty/2016/05/m9cf16f16b0-1200x732.jpg"/>
          <p:cNvPicPr/>
          <p:nvPr/>
        </p:nvPicPr>
        <p:blipFill>
          <a:blip r:embed="rId2"/>
          <a:srcRect l="27606" t="0" r="0" b="0"/>
          <a:stretch/>
        </p:blipFill>
        <p:spPr>
          <a:xfrm>
            <a:off x="0" y="3645000"/>
            <a:ext cx="3348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0:54:47Z</dcterms:created>
  <dc:creator/>
  <dc:description/>
  <dc:language>en-US</dc:language>
  <cp:lastModifiedBy>BEST</cp:lastModifiedBy>
  <dcterms:modified xsi:type="dcterms:W3CDTF">2017-11-20T16:48:42Z</dcterms:modified>
  <cp:revision>216</cp:revision>
  <dc:subject/>
  <dc:title>мел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31033</vt:lpwstr>
  </property>
</Properties>
</file>